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397-4DFC-4BE1-A0BC-EF07758E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53E-C099-45B1-BB36-BF394279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761-BD2E-46F6-8D85-B60DBD53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E27-DB6D-4DE9-B703-4FEBEB82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1AF-9670-4EC9-B597-B811326B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CAF-94B3-4E2E-9B25-F7DCAA1F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F34-4682-4860-8AE7-02067481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AFE-D028-4BF3-BC67-633BC275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FE9-6FD9-4760-BD8F-4CCA35F8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7C3-A7A5-4B18-A86C-28DF8181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CC7-0050-4D8C-881E-4E6302E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624-D455-4709-9C79-40A647BA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1FB9-E76B-4E5E-9491-98433A76AA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ornhill 3"/>
          <p:cNvPicPr/>
          <p:nvPr/>
        </p:nvPicPr>
        <p:blipFill>
          <a:blip r:embed="rId1"/>
          <a:stretch/>
        </p:blipFill>
        <p:spPr>
          <a:xfrm>
            <a:off x="1928880" y="404640"/>
            <a:ext cx="1096920" cy="113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Wanlock1"/>
          <p:cNvPicPr/>
          <p:nvPr/>
        </p:nvPicPr>
        <p:blipFill>
          <a:blip r:embed="rId2"/>
          <a:stretch/>
        </p:blipFill>
        <p:spPr>
          <a:xfrm>
            <a:off x="3657600" y="333360"/>
            <a:ext cx="895320" cy="121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umfrieshire Ex Pres"/>
          <p:cNvPicPr/>
          <p:nvPr/>
        </p:nvPicPr>
        <p:blipFill>
          <a:blip r:embed="rId3"/>
          <a:stretch/>
        </p:blipFill>
        <p:spPr>
          <a:xfrm>
            <a:off x="5024520" y="476280"/>
            <a:ext cx="1042920" cy="996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0" y="1500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HILL                                       THORNHILL                              WANLOCK PUBLIC           DUMFRIES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94488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Thornhill 1"/>
          <p:cNvPicPr/>
          <p:nvPr/>
        </p:nvPicPr>
        <p:blipFill>
          <a:blip r:embed="rId4"/>
          <a:stretch/>
        </p:blipFill>
        <p:spPr>
          <a:xfrm>
            <a:off x="344520" y="333360"/>
            <a:ext cx="969840" cy="1206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15:15:54Z</dcterms:created>
  <dc:creator>JY</dc:creator>
  <dc:description/>
  <dc:language>en-US</dc:language>
  <cp:lastModifiedBy>John</cp:lastModifiedBy>
  <dcterms:modified xsi:type="dcterms:W3CDTF">2011-11-29T19:17:16Z</dcterms:modified>
  <cp:revision>10</cp:revision>
  <dc:subject/>
  <dc:title>Slide 1</dc:title>
</cp:coreProperties>
</file>